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9592-F4B7-411C-B986-DE320EF58F7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C1A-26C9-43C1-B94D-3196477DB0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42E-7E1C-4DE7-B5DC-0D00294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DEA-2AC2-4C31-B4C5-1966E9E5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CB6-906B-41CD-BC43-04B4F79E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30D-FA55-4603-877F-BAC35DF7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A47-E066-4371-8AF7-7EAF779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01-154E-41E3-886F-CA356334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F60-426A-4D17-B923-B3AF6FB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995-06AC-4455-A148-38A81E1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795-BB78-40E7-A0DA-EE8250E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0AD-C6D2-4E15-98D3-97E9E985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1E8-E283-421A-815B-6F6B415B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8B9-5C87-4540-8052-8532E60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DC89-5134-474B-8D20-26F7C941693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46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solidFill>
            <a:srgbClr val="c6469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RY ISLAND BUFFALO JUMP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835200"/>
            <a:ext cx="26481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216000" y="-68256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68280" y="-5302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556000" y="3305160"/>
            <a:ext cx="4803480" cy="3127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y Er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Title 1"/>
          <p:cNvGrpSpPr/>
          <p:nvPr/>
        </p:nvGrpSpPr>
        <p:grpSpPr>
          <a:xfrm>
            <a:off x="457200" y="274680"/>
            <a:ext cx="8229600" cy="1146240"/>
            <a:chOff x="457200" y="274680"/>
            <a:chExt cx="8229600" cy="1146240"/>
          </a:xfrm>
        </p:grpSpPr>
        <p:pic>
          <p:nvPicPr>
            <p:cNvPr id="55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82296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3366ff"/>
                  </a:solidFill>
                  <a:latin typeface="Calibri"/>
                </a:rPr>
                <a:t>What is dry island????????????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1"/>
          <p:cNvSpPr/>
          <p:nvPr/>
        </p:nvSpPr>
        <p:spPr>
          <a:xfrm>
            <a:off x="1332000" y="270180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Dry island is ancient buffalo jump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is it called Dry Island Buffalo Jum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03280" y="2133720"/>
            <a:ext cx="610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Dry Island Buffalo Jump is so-named because of a flat-topped mesa called a "dry island" that rises 200 metres above the Red Deer River. In the distance you can see the grassy cliff-top of an ancient buffalo jump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human impact did you find at dry island buffalo j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547640" y="2637000"/>
            <a:ext cx="63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FOOT PRI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UTHOU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GARBA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15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515f7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on-hum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403280" y="2205000"/>
            <a:ext cx="619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Tre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the rive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857160" indent="-8571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600" spc="-1" strike="noStrike">
                <a:solidFill>
                  <a:srgbClr val="000000"/>
                </a:solidFill>
                <a:latin typeface="Calibri"/>
              </a:rPr>
              <a:t>buffalo bon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BIOTIC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IO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124000" y="2276640"/>
            <a:ext cx="62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ock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r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uffalo h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and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n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Mountains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3"/>
          <p:cNvSpPr/>
          <p:nvPr/>
        </p:nvSpPr>
        <p:spPr>
          <a:xfrm>
            <a:off x="4572000" y="274680"/>
            <a:ext cx="216000" cy="624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5"/>
          <p:cNvSpPr/>
          <p:nvPr/>
        </p:nvSpPr>
        <p:spPr>
          <a:xfrm flipV="1">
            <a:off x="755640" y="1557360"/>
            <a:ext cx="792000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What did the first nations use the buffalo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556000" y="26510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They used it for coats, spoons, knives, food, water bags and smoked there po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did this spot work so well as a buffalo ju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76360" y="256536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eing over 200 feet tall it will work for a buffalo jump. The first nations would herd the buffalo to the cliff and they would go o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inal impressions!?!?!?!?!?!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476360" y="1638360"/>
            <a:ext cx="7559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700" spc="-1" strike="noStrike">
                <a:solidFill>
                  <a:srgbClr val="ffff00"/>
                </a:solidFill>
                <a:latin typeface="Calibri"/>
              </a:rPr>
              <a:t>BYE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9:43:13Z</dcterms:created>
  <dc:creator>Red Deer Public Teacher</dc:creator>
  <dc:description/>
  <dc:language>en-US</dc:language>
  <cp:lastModifiedBy>Red Deer Public Teacher</cp:lastModifiedBy>
  <dcterms:modified xsi:type="dcterms:W3CDTF">2012-10-01T19:30:44Z</dcterms:modified>
  <cp:revision>19</cp:revision>
  <dc:subject/>
  <dc:title>e</dc:title>
</cp:coreProperties>
</file>